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  <p:sldId id="266" r:id="rId33"/>
    <p:sldId id="267" r:id="rId34"/>
    <p:sldId id="268" r:id="rId35"/>
    <p:sldId id="269" r:id="rId36"/>
    <p:sldId id="27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slide" Target="slides/slide11.xml"/><Relationship Id="rId34" Type="http://schemas.openxmlformats.org/officeDocument/2006/relationships/slide" Target="slides/slide12.xml"/><Relationship Id="rId35" Type="http://schemas.openxmlformats.org/officeDocument/2006/relationships/slide" Target="slides/slide13.xml"/><Relationship Id="rId36" Type="http://schemas.openxmlformats.org/officeDocument/2006/relationships/slide" Target="slides/slide14.xml"/><Relationship Id="rId37" Type="http://schemas.openxmlformats.org/officeDocument/2006/relationships/slide" Target="slides/slide1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7AF17-9170-4F6C-B0FA-0CD9D1D1D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7E38A-3254-4D62-98A2-48DE1A731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252371-898D-4C61-BCB1-8D5072BC0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5CE9D8-2E3A-471E-899B-900CC7326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120E66-3175-4FAC-9F3E-8288BDA2B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B2FF2D-EED0-4355-97B1-985E4BF81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239F70-DBDD-4F09-8BF3-0F8FDF31E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8715BF-4FAC-488D-AB3E-4F5C82785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C8FD99-D62A-486B-B8A6-7AFEDB1F7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97A566-BC0D-4A73-9C82-6E3B6C7FE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D32466-8CB1-47CB-A383-EB0D67E90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213B48-CD98-43AC-9EA0-8E25098A7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3B182-8161-4386-ACFF-4D3E13E14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92E893-7962-4AF0-A5F5-397F4A497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536606-66A9-44BA-9638-AD95205A5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62BC02-90AC-4869-81B0-2B43E5A86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CB01A2-9070-4192-A381-EC81F5FE6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09ED34-C0FF-4069-BEC5-D0DF54E64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054FEA-CDDF-40A1-A4DF-894CA6F74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C9D4D2-9B88-4096-A706-4D2425D3B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082352-191F-4CFE-92C7-B0BE19837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0DC322-04C2-42D2-9C99-E4B4FD8BC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30D8E8-8635-4A39-955D-7AF24A26E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30D9C-8A6E-4233-8BE9-3BFD988DA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27694D-52CF-4A83-949A-A8039BDB9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21B216-FCAE-4051-8AD7-D3E05643C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C8C489-C5A8-4DDA-B691-61490DD06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F2D5E9-1DBC-4540-A0BD-1B947BE18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F9518A-0214-4923-A953-09D7B57CD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1D75F2-366B-4BCF-A4CC-B9B45EE29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B5B928-50F4-4C65-A5C1-9F53752C5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1C1EBF-45A3-4BE0-8A60-B2A47114D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985A03-C799-4F9E-9C8D-24D805E28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361FF6-1B88-4978-AA71-5E1A95C5F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EE8B9-96A9-44BC-8487-FD84DD577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FABDC8-DE71-475F-8C56-769B3E1CD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2113B4-384F-4364-9296-57B057F5F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6E95C8-F617-4238-AD1F-6390EC532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CC258A-ED40-4F73-A58E-3EA399D30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A0751E-B97C-4FD0-BC31-8F6432838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36782D-F6AA-47C8-B29C-C6F55ECA3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23EAEC-435B-4860-906D-8A71DAA87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F70484-BECE-46F1-96D2-B56B28D73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82E7B3-7A01-4C97-AD51-717ADDD11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78335A-A8ED-4236-BDC2-D09A28127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B4D58-B757-41E0-8C70-1511E1B5F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0FB7CC-A39B-4457-8B27-FABABA031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415BF9-AB70-425C-B0B3-FAD139939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20BD77-B68F-4E70-A468-EA102D233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E25B1F-C72C-4E0B-985A-558E81535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0C69C7-2E84-4593-9626-517B4EB08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310C86E-A470-4B60-B05F-5BE13C530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FDE33AB-3E5D-4815-9843-A0E1A64A9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F42EEA3-0733-4BF2-BC0E-B1C4E1C20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7C9FF44-EDA9-4AE6-A1E6-564021647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129DBF2-C458-42B5-B649-E4F7890CE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1870E-F849-49CE-A4E6-11EAD95EA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BC4B7EC-5F91-471B-AB58-FC0BF8A6F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B0DE10D-971E-47E7-9BB9-743D269C8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3C89806-AB24-420F-9E39-0D470C1EE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DDCC057-956E-4213-8F02-137E46A0D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B5C2052-09F5-41F2-89A9-E2BE7CF68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A7237E7-2458-4CC4-88BC-E8857D449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C791CCE-C0C6-407E-BF3D-8045D46F1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C0C2C5C-DE08-47E8-B205-797E68006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38AE3D3-EF78-4E34-9661-7FE5F0A57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AEA1C64-F338-4C53-B981-228F2D1E4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274B3-407D-4049-9BC9-35FDFD81B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77DA2BE-BB92-432C-A1DA-05F37CD66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13F167A-12BF-43D8-956D-AD77ED60D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C079F20-87BE-41A1-992D-7610C6C33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20BE9EE-E74A-49A0-BC8D-0146A1B4A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A111149-40D2-4975-9949-0BF448C26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7E6D72B-5CD9-44B5-874B-78CAE32D1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556BD2E-94AE-411C-8745-CDCC17DF8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5643DB9-DC35-4726-BA52-E188C51CA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3839877-CB27-429F-B4DD-EA0DAB352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D5D2B4A-A91B-4D07-84D2-F56E0B5E7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ED201-0159-4B1F-AC94-E3010C8E3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93E9836-B9D6-4519-8FEA-04DBB5C09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A8D75C7-C89E-4CEE-8EBD-89DFD06F1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C830D19-4AEE-42EF-924A-D394216C0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DFF5192-FF98-4015-927C-84239A81A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5DB9997-39A8-46BE-BE21-B8E80B9B2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94B20EB-0DAA-4C34-845C-BC52FF8F6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F943C6E-9C9B-4CC7-83AC-584433399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343E4CE-E75B-4046-A868-8213A327B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234CA3B-5309-4F97-B257-78CDA4783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E7A5D80-066F-4631-9F73-354576447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35475-B59E-4674-AF30-93131E291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7883400-D286-42D3-8FA6-645F7046F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BE2EC14-7AE3-4735-82D7-1558B6EBA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100AD9A-9C7B-4F29-9762-49FEA1931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2CF26D7-54EA-4B35-9FB3-031B3EDE8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4AA6575-6CBB-4277-B787-9F33B3E08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4963E91-4E72-4039-B216-DCE2BED36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138A1DB-6EDA-460D-8B8A-0FDE91FBC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F8460A6-D33C-4461-AAE3-52B447C04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E2812E2-15E4-4F6B-83AF-18F76BAC6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8E9A1D9-988C-445C-89B5-C4D709791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669CC-F79D-4FCA-B2E3-4337120EB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E55612A-6CB9-4A7F-A05E-E56D0F47E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4114787-4DC6-4722-B0CF-4F26A9904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597777C-AD16-4377-BA85-0F663FF30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158563A-4364-4B3D-9E6D-EFCCE8523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66CCC59-35A9-4831-851D-E2CBA1456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EF13386-7118-40FF-85DD-D32C13E5B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EF8F903-1C78-4127-91ED-69BC4F0B1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00D5D25-3FE2-48D9-A579-DF220BEC3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0617CFD-E5B8-4BF6-B175-228B57262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1C44F91-83C1-4556-9117-1D4643C82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C1310-E921-42FD-BF61-A576819B5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17F2F-5348-4B4C-B4BB-3896AD623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A596D68-0BE6-4B18-BA57-F34F8FEDD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4E0992E-9DB8-412F-9B24-BA42483A0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982EF4B-5399-49D7-AC07-95AB258FF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801ABCB-D336-4A6D-907E-144E74D36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2A43D6C-3F40-4FA2-A209-E7CAC78D2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AEB1CC0-3160-482D-BBA4-5410534A7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40A39C0-EDEB-4050-BB93-A0AE61D2E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20A2B54-E34F-48CC-B6A5-EE969893F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2D4AE7C-8F3B-4E45-89B0-1236564F2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0671D02-3B96-4D16-850D-F8CC09522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E1D50-E1D8-4CD2-9214-55D085E4D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75C5717-497C-47D1-8ABC-DA33A711A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E6FE684-BF99-462C-A3DC-5D6C74335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1B259C8-375D-46C9-A480-F49D23FBD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FC201E1-F6E0-4F5F-9028-ED13E8733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47D2451-D9CB-49F2-9FDE-C20E1130A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9172994-3BD0-41DA-944B-00C56450F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4E5BFB9-B0B8-4793-A7E5-944FB92B4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5A93E07-E241-4B73-B90C-01972F383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7E8EBF3-E432-45E6-9E30-7FDD314B4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F1501EB-FD5E-41C3-A428-EB5EA241E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E6833-5924-4686-80E4-E6465AAB8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46F6879-CD59-4CCB-955A-71A729D23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D299359-E6E7-4172-A497-C0CD104F0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32C0287-295A-4C1D-8C24-1F655B675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CCC12EC-81A1-4639-8421-BA24F1769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A4E6A31-97A0-4DD3-9B28-5DFA788E0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6403B15-03B2-427F-9764-E8496C3B3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0151E62-4951-45AF-B66B-FEC8BD209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D4501DB-F2CC-4F83-853D-81E6959F3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D327349-1F79-44AD-B281-20EB71199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418A259-B664-4234-88FE-2020BEFE9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A1EC0-97C6-4DF7-B477-67E0CF10F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D0104C2-31E1-49F1-99BE-A6C87FCD3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576FF04-7DC3-4346-A35B-8BA2080AE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5CC0999-E8B9-49EC-ADB1-95BAEB2F6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04FBF71-B417-4BD1-B2D7-A1905B321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69585E3-661F-437A-B0B5-901B57290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E9968E1-D30E-4DFA-BFAB-7002C1D93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672EA03-234A-43E1-A29A-D6BCB0D83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43E4F86-52F9-4CD6-BA21-1749870C8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19C3EE0-D800-4C78-8655-367BF491E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6938DB9-9A6F-4EDF-935F-2CC2358C9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26153-97D4-48C0-9CE5-D5B1F61ED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678CD3D-606C-447D-BF96-196B56DE8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20FD176-3440-47EB-9AC0-AE21AEC38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4748A5F-D947-4072-BD44-52ABFE977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27F306D-A45D-4AA4-9E34-B0303FEA2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B42E860-603F-483C-986F-2B60B9049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D1058AD-5F85-4B37-A48A-A4574053F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27383BB-D86B-4800-B740-E213F81E4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D976F38-EA52-4FD1-8F33-EF10C1D33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E8A7C8B-8BDC-4301-99F9-20A705C52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634732B-D431-415B-A93E-ECBFBE8C1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0ED3CB-C435-4469-AE11-89304A18D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26EB0F8-D0A9-4120-B4B3-16C479B7B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A810B8F-C3CE-4664-B1BB-76D3A281B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624C142-BF03-4707-AD16-97390C1DD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C09A45-1C82-4CCD-ABE6-297CE2E81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0D8D69-C334-4652-864E-37082EC5B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05D253-7134-4605-801A-5564256DD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4245F7-0221-407C-8032-6F6F6C473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9B103-E6BE-4C99-B862-738EFB308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CF7A56-C7A0-400D-9719-F11E7E3FC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0569F8-E102-41E8-9E98-FA52432EB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9EDEB9-10F0-427A-8396-6F3E6CB35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B5F177-9998-4361-9C67-62E916A1B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79984F-6C9B-4524-8C01-45F9DF60F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BCA686-C7B2-4DDD-9205-E2473F548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8E5F99-D6C6-42B7-9761-26188A860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BE595A-586C-46AC-BAAD-DF3760DE8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2ED4ED-F901-4E31-9204-87360F358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415E9F-D060-470A-BD67-78F0D2268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34098-55F5-4106-A999-C4B04F2B8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65A73B-41D6-430E-B5F2-D584A3FA6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4B955E-CF58-41DA-8A71-DFE5A7472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E3CF99-6803-4447-B1B1-70AFD7195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2A971B-EB41-49B6-BAC8-C5D822E11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DF32DD-0B2E-49AC-AC9B-078B26FAC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29BD66-29CF-46F1-AF53-5BDFBE53D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EF2ED4-86BE-4033-A8F9-355410FD5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29E9CE-3BA0-4845-B3AC-8DC37EED3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5AF5BB-5222-4CAD-8B31-E1E6D6F9F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85065B-025D-448C-8EEE-DCEB3FA53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7045F-C85A-4CFB-8660-AA7E6BFBB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ACD8FA-30E4-4F98-BFA3-C20648D45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3C6947-4C34-4EE2-979F-A438705A5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ACD1C3-1F0F-41E8-B8AA-6CC53E277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72D749-9DDB-4F69-9C4D-74346DC86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00B06A-431E-4567-A24B-D0CEB9532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BBD106-BAD4-4020-8821-1E429B1F6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8283CE-1941-4C55-AE07-2A7365ECA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275961-713E-4BFE-9FE2-1259F573A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342CFA-0AB6-4ABD-8251-E93962F8F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D64B9B-CD79-40C0-A929-557BD1EEE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0B626-C311-4733-AB48-404C3CFDA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9C0125-56BF-4DC5-897F-6E58A5A12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B388F7-25DF-4558-A799-6EAA66471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DF546A-BFE6-4844-BC79-63FCBA2C9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E8364D-E3FE-4F2E-A4FE-278B1BB37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14F4E3-9C84-40D0-9C2B-BE416740A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B20322-371A-4560-9039-EB8808632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95A113-B025-4CE8-9642-7DB8176BD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EB9678-7CFA-4752-821C-BE7FBABC2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DB8401-33BB-4850-9D57-4FE2C48FC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02B5CB-5E2A-4CC8-9F29-57BDACC87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87DDB-688B-431D-9F23-B4B49A7CD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CCAE2A-A1A6-4740-BD0E-BB9726B6C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8E91CD-9F7B-4213-B073-F66EA9179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CF3E18-E599-43FD-AD4B-C251EE1C3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3CCBF9-244D-4978-A51E-6224E7D35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19D029-CCFA-4A7D-8F96-0E74156CF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22DFD1-9528-43AF-B1C7-14D9637DA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33F08E-1E18-4742-A21C-65515DC21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C1E952-63DD-4786-A6CB-866853C31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C463F2-807C-4F94-848D-ECC6100CF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4FDC4E-986F-457E-AFF7-F4056C109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AB16B-5764-4DC4-A83D-F60ACA97C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BF342B-8C5F-48AC-92C7-18228A5A5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F57A89-1917-4D5E-9806-A11C25561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0F661B-D34F-46CA-AF55-1FA0A6D63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7F6569-F5E9-42AD-B5ED-84E986C51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F15AE5-EC82-4C54-8237-CC45D06D8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BF67EB-C670-44B0-B01C-1C3B9287A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B1F437-2A58-4E27-9770-610DCE175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3CA82B-94DB-447C-B27E-D705C11ED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3ECD3D-6A33-482E-AA56-54921C75B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133167-9A5D-4FCE-90B2-88C93D9E6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2D24B-2563-4EEE-BBF8-0DE5753A6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185669-2955-4FEF-B3B4-07CA080F3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7D4D7C-3C9F-4706-A655-8312C741E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3B605F-8DBB-4E55-B402-8F8D7B8F1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84D79A-6A55-4D89-88C3-E92AFC77B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F0787A-B659-4F2F-914A-02D1F21FC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C5F4DC-C175-4C0D-952B-FA1FCB85E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7EA9BB-57E0-4C2F-8360-5059ED0F2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40F513-3C36-4C4C-A229-0EA342DC8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D9ADCF-A5FA-42D3-B432-D49E289A4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E633E4-52DE-40A0-AD12-9F84CE83A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7F5EE-BDCD-42E9-BC1B-5F6517641C8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3B760-0FDB-406D-B4C1-8A4FDD954E8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89A5A-6178-49D0-9816-4050B180653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3ADDD-91D9-42E3-8E9F-D2D73D8C77D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CFED2-DD44-4B58-89A1-D7C1966B5BB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E83E5-7D79-4B0C-AFA4-D7E6432DC2C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C9A32-2ACA-43B1-94FE-279EFDFDB48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A458B-9537-407E-B52B-2145DEF0FED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058AA-1F9C-474D-93D8-B360C151789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1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1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353BB-0323-4BAB-B2C3-577470CC207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7F5BD-F623-484E-B921-37DDDDC1A3A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7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7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3AEDC-25F2-44BF-837D-14ED3A7B197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53093-9A4D-4315-AFD9-3D244354534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7B394-D42E-4BFE-A608-ACF26A26B5D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40C4F-290F-4E04-8851-16D87874EE5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80F7D-D40F-4B97-A0CB-369BB2B02ED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9AE92-C780-4E72-859F-AF8DC1D2568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135D9-5C5D-4C5E-AE71-3FFA8E5248A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38DE9-75AB-403A-A322-B76663BD3DD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7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95F33-544B-48EA-8105-1ED68A4AD18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40DC8-DCE5-4280-AB74-5A44EBCE3AF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2D254-9794-4482-8CEC-9504173B2A0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0218D-0247-46B3-83C9-B8EFF32CF95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F9041-FD48-4F9B-9C4C-A50B3C9F654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89916-047E-441D-81EF-40E7FAC5261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6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7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7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DBF7B-0AEB-438D-BC8E-FD6A92D0E48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481AE-5F3B-49BD-A10D-CADE3187265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F11FE-F0AA-4DB0-87A3-D3390A155B7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3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B0F91-30AF-46ED-860D-24D58F2476D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25170-15D9-4C4A-9F7A-972A9E16389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458BF-490D-4155-BD31-69BF44DBD68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16914-80C8-4B8F-AB45-CED8FB29FA1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1A5C5-82B9-4407-86F4-BF5E5049DC6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7A027-BC95-4356-ADB4-6D039A1E34B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52506-C702-4547-8569-A099D72B08F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B7782-0457-4672-A52E-2EC0AD370A3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42E19-048B-4EAA-A036-D87901A4B3F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14595-BFAB-4FA9-91E9-7C051BE4EC1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7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9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82812-2939-4337-BBDF-F08E2DB77AA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09BDF-E562-44CD-B1F3-4164C16ED48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2" name="图片 28680" descr=""/>
          <p:cNvPicPr/>
          <p:nvPr/>
        </p:nvPicPr>
        <p:blipFill>
          <a:blip r:embed="rId1"/>
          <a:stretch/>
        </p:blipFill>
        <p:spPr>
          <a:xfrm>
            <a:off x="1881360" y="3114720"/>
            <a:ext cx="5381280" cy="62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8" name="图片 79873" descr=""/>
          <p:cNvPicPr/>
          <p:nvPr/>
        </p:nvPicPr>
        <p:blipFill>
          <a:blip r:embed="rId1"/>
          <a:stretch/>
        </p:blipFill>
        <p:spPr>
          <a:xfrm>
            <a:off x="557280" y="1343160"/>
            <a:ext cx="8029440" cy="4171680"/>
          </a:xfrm>
          <a:prstGeom prst="rect">
            <a:avLst/>
          </a:prstGeom>
          <a:ln w="0">
            <a:noFill/>
          </a:ln>
        </p:spPr>
      </p:pic>
      <p:sp>
        <p:nvSpPr>
          <p:cNvPr id="1059" name="矩形 79874"/>
          <p:cNvSpPr/>
          <p:nvPr/>
        </p:nvSpPr>
        <p:spPr>
          <a:xfrm>
            <a:off x="3979800" y="3716280"/>
            <a:ext cx="432000" cy="393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矩形 79875"/>
          <p:cNvSpPr/>
          <p:nvPr/>
        </p:nvSpPr>
        <p:spPr>
          <a:xfrm>
            <a:off x="4970520" y="4183200"/>
            <a:ext cx="1906560" cy="393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矩形 79876"/>
          <p:cNvSpPr/>
          <p:nvPr/>
        </p:nvSpPr>
        <p:spPr>
          <a:xfrm>
            <a:off x="7637400" y="4629240"/>
            <a:ext cx="679680" cy="393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2" dur="10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7" dur="1000"/>
                                        <p:tgtEl>
                                          <p:spTgt spid="10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2" dur="1000"/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2" name="图片 78849" descr=""/>
          <p:cNvPicPr/>
          <p:nvPr/>
        </p:nvPicPr>
        <p:blipFill>
          <a:blip r:embed="rId1"/>
          <a:stretch/>
        </p:blipFill>
        <p:spPr>
          <a:xfrm>
            <a:off x="527040" y="787320"/>
            <a:ext cx="8086680" cy="2333880"/>
          </a:xfrm>
          <a:prstGeom prst="rect">
            <a:avLst/>
          </a:prstGeom>
          <a:ln w="0">
            <a:noFill/>
          </a:ln>
        </p:spPr>
      </p:pic>
      <p:pic>
        <p:nvPicPr>
          <p:cNvPr id="1063" name="图片 78851" descr=""/>
          <p:cNvPicPr/>
          <p:nvPr/>
        </p:nvPicPr>
        <p:blipFill>
          <a:blip r:embed="rId2"/>
          <a:stretch/>
        </p:blipFill>
        <p:spPr>
          <a:xfrm>
            <a:off x="549360" y="3160800"/>
            <a:ext cx="7991280" cy="3219480"/>
          </a:xfrm>
          <a:prstGeom prst="rect">
            <a:avLst/>
          </a:prstGeom>
          <a:ln w="0">
            <a:noFill/>
          </a:ln>
        </p:spPr>
      </p:pic>
      <p:sp>
        <p:nvSpPr>
          <p:cNvPr id="1064" name="矩形 78852"/>
          <p:cNvSpPr/>
          <p:nvPr/>
        </p:nvSpPr>
        <p:spPr>
          <a:xfrm>
            <a:off x="5983200" y="2205000"/>
            <a:ext cx="2549520" cy="371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矩形 78853"/>
          <p:cNvSpPr/>
          <p:nvPr/>
        </p:nvSpPr>
        <p:spPr>
          <a:xfrm>
            <a:off x="1160640" y="2651040"/>
            <a:ext cx="3411360" cy="371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矩形 78854"/>
          <p:cNvSpPr/>
          <p:nvPr/>
        </p:nvSpPr>
        <p:spPr>
          <a:xfrm>
            <a:off x="1379520" y="3610080"/>
            <a:ext cx="888840" cy="371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矩形 78855"/>
          <p:cNvSpPr/>
          <p:nvPr/>
        </p:nvSpPr>
        <p:spPr>
          <a:xfrm>
            <a:off x="5985000" y="5483160"/>
            <a:ext cx="603000" cy="371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矩形 78856"/>
          <p:cNvSpPr/>
          <p:nvPr/>
        </p:nvSpPr>
        <p:spPr>
          <a:xfrm>
            <a:off x="4460760" y="5940360"/>
            <a:ext cx="831960" cy="371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9" dur="1000"/>
                                        <p:tgtEl>
                                          <p:spTgt spid="10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4" dur="1000"/>
                                        <p:tgtEl>
                                          <p:spTgt spid="10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9" dur="1000"/>
                                        <p:tgtEl>
                                          <p:spTgt spid="10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4" dur="1000"/>
                                        <p:tgtEl>
                                          <p:spTgt spid="10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9" dur="1000"/>
                                        <p:tgtEl>
                                          <p:spTgt spid="10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9" name="图片 77825" descr=""/>
          <p:cNvPicPr/>
          <p:nvPr/>
        </p:nvPicPr>
        <p:blipFill>
          <a:blip r:embed="rId1"/>
          <a:stretch/>
        </p:blipFill>
        <p:spPr>
          <a:xfrm>
            <a:off x="600120" y="1247760"/>
            <a:ext cx="7943760" cy="4362480"/>
          </a:xfrm>
          <a:prstGeom prst="rect">
            <a:avLst/>
          </a:prstGeom>
          <a:ln w="0">
            <a:noFill/>
          </a:ln>
        </p:spPr>
      </p:pic>
      <p:sp>
        <p:nvSpPr>
          <p:cNvPr id="1070" name="矩形 77826"/>
          <p:cNvSpPr/>
          <p:nvPr/>
        </p:nvSpPr>
        <p:spPr>
          <a:xfrm>
            <a:off x="3230640" y="2173320"/>
            <a:ext cx="831600" cy="371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矩形 77827"/>
          <p:cNvSpPr/>
          <p:nvPr/>
        </p:nvSpPr>
        <p:spPr>
          <a:xfrm>
            <a:off x="4546440" y="2652840"/>
            <a:ext cx="831960" cy="371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6" dur="1000"/>
                                        <p:tgtEl>
                                          <p:spTgt spid="10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1" dur="1000"/>
                                        <p:tgtEl>
                                          <p:spTgt spid="10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2" name="图片 76801" descr=""/>
          <p:cNvPicPr/>
          <p:nvPr/>
        </p:nvPicPr>
        <p:blipFill>
          <a:blip r:embed="rId1"/>
          <a:stretch/>
        </p:blipFill>
        <p:spPr>
          <a:xfrm>
            <a:off x="547560" y="905040"/>
            <a:ext cx="8048880" cy="50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3" name="图片 89089" descr=""/>
          <p:cNvPicPr/>
          <p:nvPr/>
        </p:nvPicPr>
        <p:blipFill>
          <a:blip r:embed="rId1"/>
          <a:stretch/>
        </p:blipFill>
        <p:spPr>
          <a:xfrm>
            <a:off x="1187280" y="1557360"/>
            <a:ext cx="5295960" cy="3610080"/>
          </a:xfrm>
          <a:prstGeom prst="rect">
            <a:avLst/>
          </a:prstGeom>
          <a:ln w="0">
            <a:noFill/>
          </a:ln>
        </p:spPr>
      </p:pic>
      <p:sp>
        <p:nvSpPr>
          <p:cNvPr id="1074" name="矩形 89090"/>
          <p:cNvSpPr/>
          <p:nvPr/>
        </p:nvSpPr>
        <p:spPr>
          <a:xfrm>
            <a:off x="1216080" y="1608120"/>
            <a:ext cx="5084640" cy="371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矩形 89091"/>
          <p:cNvSpPr/>
          <p:nvPr/>
        </p:nvSpPr>
        <p:spPr>
          <a:xfrm>
            <a:off x="1074600" y="2119320"/>
            <a:ext cx="5085000" cy="371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矩形 89092"/>
          <p:cNvSpPr/>
          <p:nvPr/>
        </p:nvSpPr>
        <p:spPr>
          <a:xfrm>
            <a:off x="1031760" y="2565360"/>
            <a:ext cx="5484960" cy="763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矩形 89100"/>
          <p:cNvSpPr/>
          <p:nvPr/>
        </p:nvSpPr>
        <p:spPr>
          <a:xfrm>
            <a:off x="1258920" y="3357720"/>
            <a:ext cx="424980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矩形 89101"/>
          <p:cNvSpPr/>
          <p:nvPr/>
        </p:nvSpPr>
        <p:spPr>
          <a:xfrm>
            <a:off x="1204920" y="3859200"/>
            <a:ext cx="424980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矩形 89102"/>
          <p:cNvSpPr/>
          <p:nvPr/>
        </p:nvSpPr>
        <p:spPr>
          <a:xfrm>
            <a:off x="1227240" y="4365720"/>
            <a:ext cx="4784760" cy="785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8" dur="1000"/>
                                        <p:tgtEl>
                                          <p:spTgt spid="10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3" dur="1000"/>
                                        <p:tgtEl>
                                          <p:spTgt spid="10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8" dur="1000"/>
                                        <p:tgtEl>
                                          <p:spTgt spid="10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3" dur="1000"/>
                                        <p:tgtEl>
                                          <p:spTgt spid="10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8" dur="1000"/>
                                        <p:tgtEl>
                                          <p:spTgt spid="10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3" dur="1000"/>
                                        <p:tgtEl>
                                          <p:spTgt spid="10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0" name="图片 90113" descr=""/>
          <p:cNvPicPr/>
          <p:nvPr/>
        </p:nvPicPr>
        <p:blipFill>
          <a:blip r:embed="rId1"/>
          <a:stretch/>
        </p:blipFill>
        <p:spPr>
          <a:xfrm>
            <a:off x="538200" y="1219320"/>
            <a:ext cx="8067600" cy="4419360"/>
          </a:xfrm>
          <a:prstGeom prst="rect">
            <a:avLst/>
          </a:prstGeom>
          <a:ln w="0">
            <a:noFill/>
          </a:ln>
        </p:spPr>
      </p:pic>
      <p:sp>
        <p:nvSpPr>
          <p:cNvPr id="1081" name="矩形 90114"/>
          <p:cNvSpPr/>
          <p:nvPr/>
        </p:nvSpPr>
        <p:spPr>
          <a:xfrm>
            <a:off x="2152800" y="3100320"/>
            <a:ext cx="831600" cy="371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矩形 90115"/>
          <p:cNvSpPr/>
          <p:nvPr/>
        </p:nvSpPr>
        <p:spPr>
          <a:xfrm>
            <a:off x="6180120" y="3544920"/>
            <a:ext cx="831960" cy="371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0" dur="1000"/>
                                        <p:tgtEl>
                                          <p:spTgt spid="10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5" dur="1000"/>
                                        <p:tgtEl>
                                          <p:spTgt spid="10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3" name="图片 88066" descr=""/>
          <p:cNvPicPr/>
          <p:nvPr/>
        </p:nvPicPr>
        <p:blipFill>
          <a:blip r:embed="rId1"/>
          <a:stretch/>
        </p:blipFill>
        <p:spPr>
          <a:xfrm>
            <a:off x="395280" y="765000"/>
            <a:ext cx="2867040" cy="723960"/>
          </a:xfrm>
          <a:prstGeom prst="rect">
            <a:avLst/>
          </a:prstGeom>
          <a:ln w="0">
            <a:noFill/>
          </a:ln>
        </p:spPr>
      </p:pic>
      <p:pic>
        <p:nvPicPr>
          <p:cNvPr id="1024" name="图片 88067" descr=""/>
          <p:cNvPicPr/>
          <p:nvPr/>
        </p:nvPicPr>
        <p:blipFill>
          <a:blip r:embed="rId2"/>
          <a:stretch/>
        </p:blipFill>
        <p:spPr>
          <a:xfrm>
            <a:off x="395280" y="1844640"/>
            <a:ext cx="8391600" cy="3219480"/>
          </a:xfrm>
          <a:prstGeom prst="rect">
            <a:avLst/>
          </a:prstGeom>
          <a:ln w="0">
            <a:noFill/>
          </a:ln>
        </p:spPr>
      </p:pic>
      <p:sp>
        <p:nvSpPr>
          <p:cNvPr id="1025" name="矩形 88068"/>
          <p:cNvSpPr/>
          <p:nvPr/>
        </p:nvSpPr>
        <p:spPr>
          <a:xfrm>
            <a:off x="2124000" y="2205000"/>
            <a:ext cx="71928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矩形 88069"/>
          <p:cNvSpPr/>
          <p:nvPr/>
        </p:nvSpPr>
        <p:spPr>
          <a:xfrm>
            <a:off x="3735360" y="2563920"/>
            <a:ext cx="71928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矩形 88070"/>
          <p:cNvSpPr/>
          <p:nvPr/>
        </p:nvSpPr>
        <p:spPr>
          <a:xfrm>
            <a:off x="2679840" y="2944800"/>
            <a:ext cx="110016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矩形 88071"/>
          <p:cNvSpPr/>
          <p:nvPr/>
        </p:nvSpPr>
        <p:spPr>
          <a:xfrm>
            <a:off x="6686640" y="2944800"/>
            <a:ext cx="76500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矩形 88072"/>
          <p:cNvSpPr/>
          <p:nvPr/>
        </p:nvSpPr>
        <p:spPr>
          <a:xfrm>
            <a:off x="7894800" y="2955960"/>
            <a:ext cx="76500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矩形 88073"/>
          <p:cNvSpPr/>
          <p:nvPr/>
        </p:nvSpPr>
        <p:spPr>
          <a:xfrm>
            <a:off x="5326200" y="3325680"/>
            <a:ext cx="1046160" cy="287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矩形 88074"/>
          <p:cNvSpPr/>
          <p:nvPr/>
        </p:nvSpPr>
        <p:spPr>
          <a:xfrm>
            <a:off x="7775640" y="3325680"/>
            <a:ext cx="684000" cy="287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矩形 88075"/>
          <p:cNvSpPr/>
          <p:nvPr/>
        </p:nvSpPr>
        <p:spPr>
          <a:xfrm>
            <a:off x="1619280" y="3716280"/>
            <a:ext cx="792000" cy="539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矩形 88081"/>
          <p:cNvSpPr/>
          <p:nvPr/>
        </p:nvSpPr>
        <p:spPr>
          <a:xfrm>
            <a:off x="6877080" y="3860640"/>
            <a:ext cx="480960" cy="254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矩形 88082"/>
          <p:cNvSpPr/>
          <p:nvPr/>
        </p:nvSpPr>
        <p:spPr>
          <a:xfrm>
            <a:off x="2870280" y="4349880"/>
            <a:ext cx="838080" cy="253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矩形 88083"/>
          <p:cNvSpPr/>
          <p:nvPr/>
        </p:nvSpPr>
        <p:spPr>
          <a:xfrm>
            <a:off x="6603840" y="4370400"/>
            <a:ext cx="632160" cy="254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矩形 88084"/>
          <p:cNvSpPr/>
          <p:nvPr/>
        </p:nvSpPr>
        <p:spPr>
          <a:xfrm>
            <a:off x="2695680" y="4751280"/>
            <a:ext cx="631800" cy="254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矩形 88085"/>
          <p:cNvSpPr/>
          <p:nvPr/>
        </p:nvSpPr>
        <p:spPr>
          <a:xfrm>
            <a:off x="3935520" y="4751280"/>
            <a:ext cx="631800" cy="254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10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10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10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10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" dur="10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" dur="10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6" dur="10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1" dur="10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6" dur="10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1" dur="10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6" dur="10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8" name="图片 87041" descr=""/>
          <p:cNvPicPr/>
          <p:nvPr/>
        </p:nvPicPr>
        <p:blipFill>
          <a:blip r:embed="rId1"/>
          <a:stretch/>
        </p:blipFill>
        <p:spPr>
          <a:xfrm>
            <a:off x="324000" y="765000"/>
            <a:ext cx="8429400" cy="5286600"/>
          </a:xfrm>
          <a:prstGeom prst="rect">
            <a:avLst/>
          </a:prstGeom>
          <a:ln w="0">
            <a:noFill/>
          </a:ln>
        </p:spPr>
      </p:pic>
      <p:sp>
        <p:nvSpPr>
          <p:cNvPr id="1039" name="矩形 87042"/>
          <p:cNvSpPr/>
          <p:nvPr/>
        </p:nvSpPr>
        <p:spPr>
          <a:xfrm>
            <a:off x="2765520" y="2308320"/>
            <a:ext cx="3101760" cy="282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矩形 87043"/>
          <p:cNvSpPr/>
          <p:nvPr/>
        </p:nvSpPr>
        <p:spPr>
          <a:xfrm>
            <a:off x="4397400" y="2678040"/>
            <a:ext cx="3102120" cy="282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矩形 87044"/>
          <p:cNvSpPr/>
          <p:nvPr/>
        </p:nvSpPr>
        <p:spPr>
          <a:xfrm>
            <a:off x="5038560" y="3059280"/>
            <a:ext cx="757440" cy="282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矩形 87045"/>
          <p:cNvSpPr/>
          <p:nvPr/>
        </p:nvSpPr>
        <p:spPr>
          <a:xfrm>
            <a:off x="7564320" y="5313240"/>
            <a:ext cx="757440" cy="282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矩形 87046"/>
          <p:cNvSpPr/>
          <p:nvPr/>
        </p:nvSpPr>
        <p:spPr>
          <a:xfrm>
            <a:off x="4788000" y="5683320"/>
            <a:ext cx="504720" cy="282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3" dur="10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8" dur="10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3" dur="10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8" dur="10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3" dur="10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4" name="图片 86018" descr=""/>
          <p:cNvPicPr/>
          <p:nvPr/>
        </p:nvPicPr>
        <p:blipFill>
          <a:blip r:embed="rId1"/>
          <a:stretch/>
        </p:blipFill>
        <p:spPr>
          <a:xfrm>
            <a:off x="352440" y="2128680"/>
            <a:ext cx="8439120" cy="2600640"/>
          </a:xfrm>
          <a:prstGeom prst="rect">
            <a:avLst/>
          </a:prstGeom>
          <a:ln w="0">
            <a:noFill/>
          </a:ln>
        </p:spPr>
      </p:pic>
      <p:sp>
        <p:nvSpPr>
          <p:cNvPr id="1045" name="矩形 86020"/>
          <p:cNvSpPr/>
          <p:nvPr/>
        </p:nvSpPr>
        <p:spPr>
          <a:xfrm>
            <a:off x="8172360" y="2997360"/>
            <a:ext cx="28728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0" dur="10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6" name="图片 84993" descr=""/>
          <p:cNvPicPr/>
          <p:nvPr/>
        </p:nvPicPr>
        <p:blipFill>
          <a:blip r:embed="rId1"/>
          <a:stretch/>
        </p:blipFill>
        <p:spPr>
          <a:xfrm>
            <a:off x="395280" y="1457280"/>
            <a:ext cx="8353440" cy="3943440"/>
          </a:xfrm>
          <a:prstGeom prst="rect">
            <a:avLst/>
          </a:prstGeom>
          <a:ln w="0">
            <a:noFill/>
          </a:ln>
        </p:spPr>
      </p:pic>
      <p:sp>
        <p:nvSpPr>
          <p:cNvPr id="1047" name="矩形 84994"/>
          <p:cNvSpPr/>
          <p:nvPr/>
        </p:nvSpPr>
        <p:spPr>
          <a:xfrm>
            <a:off x="8228160" y="1440000"/>
            <a:ext cx="28728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矩形 84995"/>
          <p:cNvSpPr/>
          <p:nvPr/>
        </p:nvSpPr>
        <p:spPr>
          <a:xfrm>
            <a:off x="6732720" y="3860640"/>
            <a:ext cx="287280" cy="254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矩形 84996"/>
          <p:cNvSpPr/>
          <p:nvPr/>
        </p:nvSpPr>
        <p:spPr>
          <a:xfrm>
            <a:off x="5364000" y="4221000"/>
            <a:ext cx="432000" cy="287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7" dur="10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2" dur="10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7" dur="10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0" name="图片 83969" descr=""/>
          <p:cNvPicPr/>
          <p:nvPr/>
        </p:nvPicPr>
        <p:blipFill>
          <a:blip r:embed="rId1"/>
          <a:stretch/>
        </p:blipFill>
        <p:spPr>
          <a:xfrm>
            <a:off x="547560" y="1071720"/>
            <a:ext cx="8048880" cy="4714560"/>
          </a:xfrm>
          <a:prstGeom prst="rect">
            <a:avLst/>
          </a:prstGeom>
          <a:ln w="0">
            <a:noFill/>
          </a:ln>
        </p:spPr>
      </p:pic>
      <p:sp>
        <p:nvSpPr>
          <p:cNvPr id="1051" name="矩形 83970"/>
          <p:cNvSpPr/>
          <p:nvPr/>
        </p:nvSpPr>
        <p:spPr>
          <a:xfrm>
            <a:off x="7885080" y="3573360"/>
            <a:ext cx="287280" cy="430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4" dur="10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2" name="图片 82945" descr=""/>
          <p:cNvPicPr/>
          <p:nvPr/>
        </p:nvPicPr>
        <p:blipFill>
          <a:blip r:embed="rId1"/>
          <a:stretch/>
        </p:blipFill>
        <p:spPr>
          <a:xfrm>
            <a:off x="539640" y="765000"/>
            <a:ext cx="8010720" cy="5353200"/>
          </a:xfrm>
          <a:prstGeom prst="rect">
            <a:avLst/>
          </a:prstGeom>
          <a:ln w="0">
            <a:noFill/>
          </a:ln>
        </p:spPr>
      </p:pic>
      <p:sp>
        <p:nvSpPr>
          <p:cNvPr id="1053" name="矩形 82946"/>
          <p:cNvSpPr/>
          <p:nvPr/>
        </p:nvSpPr>
        <p:spPr>
          <a:xfrm>
            <a:off x="7812000" y="2133720"/>
            <a:ext cx="43200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1" dur="10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4" name="图片 81921" descr=""/>
          <p:cNvPicPr/>
          <p:nvPr/>
        </p:nvPicPr>
        <p:blipFill>
          <a:blip r:embed="rId1"/>
          <a:stretch/>
        </p:blipFill>
        <p:spPr>
          <a:xfrm>
            <a:off x="542880" y="1595520"/>
            <a:ext cx="8058240" cy="3666960"/>
          </a:xfrm>
          <a:prstGeom prst="rect">
            <a:avLst/>
          </a:prstGeom>
          <a:ln w="0">
            <a:noFill/>
          </a:ln>
        </p:spPr>
      </p:pic>
      <p:sp>
        <p:nvSpPr>
          <p:cNvPr id="1055" name="矩形 81922"/>
          <p:cNvSpPr/>
          <p:nvPr/>
        </p:nvSpPr>
        <p:spPr>
          <a:xfrm>
            <a:off x="5867280" y="2997360"/>
            <a:ext cx="43200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8" dur="10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6" name="图片 80897" descr=""/>
          <p:cNvPicPr/>
          <p:nvPr/>
        </p:nvPicPr>
        <p:blipFill>
          <a:blip r:embed="rId1"/>
          <a:stretch/>
        </p:blipFill>
        <p:spPr>
          <a:xfrm>
            <a:off x="542880" y="1800360"/>
            <a:ext cx="8058240" cy="3257280"/>
          </a:xfrm>
          <a:prstGeom prst="rect">
            <a:avLst/>
          </a:prstGeom>
          <a:ln w="0">
            <a:noFill/>
          </a:ln>
        </p:spPr>
      </p:pic>
      <p:sp>
        <p:nvSpPr>
          <p:cNvPr id="1057" name="矩形 80898"/>
          <p:cNvSpPr/>
          <p:nvPr/>
        </p:nvSpPr>
        <p:spPr>
          <a:xfrm>
            <a:off x="4788000" y="3645000"/>
            <a:ext cx="431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5" dur="1000"/>
                                        <p:tgtEl>
                                          <p:spTgt spid="10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7-14T01:25:29Z</dcterms:modified>
  <cp:revision>25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828</vt:lpwstr>
  </property>
</Properties>
</file>